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E1C-4737-4C1F-B6E0-8A3C446B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A4A-EE09-4C26-8F01-F2A3BE75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20B-58F9-470B-8F13-B5B384A2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711-2FA1-4CD6-A7F9-90AC1819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D76D-462E-45C8-B457-31C765B1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4315-2291-4B8B-A4B3-26AFC253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1124-7328-4943-8A4A-754A30A1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A486-2B63-4549-9293-F75E53F2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84E3-4D7F-42CF-9FF9-7543603D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8B96-51E3-4DC0-84E6-222F0CCB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12DC-0BF1-4BE1-8921-59E9E347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170-4D4B-4ECD-874B-607F1DF5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65AC-D549-4396-82B4-0A54F04A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5108-44C3-4CED-95F6-8637754C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9C3F-CF83-42F9-8F8F-53717D89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FCF9-660E-4DC7-B07A-80183CEE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FA0D-0F0D-45A3-AF61-44FCA878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C28-5793-4091-8326-02E3265A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C55-4A17-4830-A60B-C8528086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2D8-A6B8-4C52-BD5E-A409A43C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7D7-FB55-405E-90F4-573B1E90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1B5-ECB9-4F81-B699-43BF8AEC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ED08-FCB2-4307-8834-379DC67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26E-F373-429F-BF8B-1E10A346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B9D3-5E9B-4A9A-8023-DA437C9499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3F15-225E-4EA2-827D-51972C4BED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LA CLASE DE ESPANOL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: JUSTINO Y TON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S ANIMA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s toreos tradan pegale al los hend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os tores corren al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638680" y="2286000"/>
            <a:ext cx="3048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S PAI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lombi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sta Ric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733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S FAMI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S NUMBIR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5:30:50Z</dcterms:created>
  <dc:creator>WSFCS Workstation</dc:creator>
  <dc:description/>
  <dc:language>en-US</dc:language>
  <cp:lastModifiedBy>WSFCS Workstation</cp:lastModifiedBy>
  <dcterms:modified xsi:type="dcterms:W3CDTF">2010-04-26T15:56:45Z</dcterms:modified>
  <cp:revision>2</cp:revision>
  <dc:subject/>
  <dc:title>LA CLASE DE ESPANOL</dc:title>
</cp:coreProperties>
</file>